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2D6-9056-4044-B10E-23D84DB8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70A-ECC4-4465-98B1-02354830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45C-A451-422D-A8D8-E46EE952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A79-E6E5-45D4-ABB6-B8FC569D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1491-6F04-4772-8EAE-5B2C9CEA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FECF-342B-4D51-ABC5-1DBF8E7A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0D76-5D02-4C71-8545-2F9E2A90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6156-73D2-4EE2-8B0B-6C43E55C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1BEE-BEED-4157-B888-CA3E806D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5E16-7D4A-4B73-A742-1BE3DAD1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0607-058B-4C9D-8268-E908CA5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7E9-A757-4E3F-9A31-E143AD83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2C74-2211-4D57-A24F-2AA5AB47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D708-0F4A-4013-9AA3-3C7D2703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4909-3714-429C-BBA9-5B301CDD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AD8-1143-431A-A275-3ECA9163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AA20-CC86-4BA7-A4F2-38590BDA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4487-9D53-4B73-90FA-7C8DCC28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7EF7-3670-4F13-A839-BDE47E12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52EA-CBF4-4C0A-BB0A-F7D14341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49A3-5653-4790-A12A-1C4AF45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8CC9-6995-49C9-9CF0-DA41CD02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FCE-33BA-4C2F-BEA2-14A5A9C6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4567-D1D5-48A4-8269-6B43E41C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C3BC-42D5-493D-8456-FE1FDFC1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A32B4-1C51-4630-92B8-8217DCBB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70A8E-08E4-4DEF-A8FB-5BF155CE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621D-0804-4C9C-B91B-7959872E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6557-8AD9-4E56-9A42-7F85820A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0188-AB9D-46E9-8C9F-C4864856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59F5C-B70F-4D63-93DB-AA0F0777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00AA1-30D2-4B85-ACFC-D9344AB4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82A2-3BCA-4EAF-A4AC-18605A4A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740-D76D-4582-940E-DCE93231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BED50-60C0-4FE8-99DF-CC862B0C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EA90-CDAA-465A-AB8E-68D7A1DA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335C-89AE-4F3E-B2AD-0312870D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E324A-B003-433F-AFAE-F5D0F593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5411D-D96C-4C88-910C-CE8C6518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5281-F247-4BD9-AA09-F084B419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55DD-6AC0-4877-A258-03C2FE83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2390-0F76-4319-9C3C-251C31C3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9CF38-0B85-4C0C-BEB1-2D4F4DB1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2100-B2B7-458A-85BE-BBA2F4A1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2BF-D4D7-4C25-86D2-6EA6C5D0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0354-36E1-40D0-819C-C672BB18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3FBA-8124-47D2-80E1-9E40E782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9D30-3A90-4FD5-BD55-8E6D4DFE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2B91C-33C9-473A-B263-9B352FD6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62676-7A76-48C0-A962-D099F345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13954-12EB-445D-ADEE-ABF30EB0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4572C-EE7F-4B0D-A9C7-6B39CDBC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45CAA-07B1-48C3-8735-5F84EEFA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26121-4619-4474-87AC-CA08C15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6AA0D-5BF7-4DC1-AC6F-64A5039E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9A7-B86C-4CDD-BA47-07E6EEED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02C0-F73F-41F5-B0EC-A050F489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06124-DD65-4EE8-BBE5-47CA00B7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EF917-2A85-4812-912E-36F9DA51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C47FD-2D10-449D-85E8-2B69F57E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2BE68-5893-4AAA-B64F-2A21E0B1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8B5E9-09E5-4B04-A8FF-F02E1880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1CB83-D462-414B-9A1F-628143C2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D8FEF-CB36-4FDC-AD50-1589803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EF112-EEA8-4675-BC87-2CB82FE1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E5C56-BEA3-45A2-B483-AF9C2F37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EE1-8186-4982-B537-815EC62C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27971-4376-42E6-B3FE-3C11CA02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E1DC2-E181-4259-B2B5-3C4DEDE0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5C872-F6F3-451C-8C5F-5EB3BA32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2A71F-7586-4D73-8E44-EA2130ED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34480-8941-4750-A14E-88E2DCD9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0BD02-C337-4DB6-B7E1-3E46C78F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122DB-835B-4A4F-A0C9-D02921A8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CFBE-9AA6-4CBB-977C-2B6E14E7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8087D-8CBB-412E-BA70-FA120C6E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3F0BE-77F9-4A46-8408-683A490E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E69-A44A-4E8B-B7E6-2278636E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E3B4A-E9A6-406D-8625-669F8C3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7B48C-E9B6-49B4-B1C8-10248BDE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9DFAC-7009-4008-90D9-6F263922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5ECEC-76C2-4313-97B6-9DD36879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35537-7854-4809-9B55-AC4A38C4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7D3-A863-473A-8437-C146AE7B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mic Sans MS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6DD6-1717-478C-820D-55E642AF62D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mic Sans MS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95ED-A4C0-46FD-9057-EDF88360BD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mic Sans MS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3A59-72C2-4C36-97CC-AE7874B545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mic Sans MS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C7B9-4AED-453B-AF91-A6D63D33B63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mic Sans MS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8FFE-C976-47F4-B551-A9C0B5900B5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mic Sans MS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1A8F-A790-468D-82B0-60B215D7E2C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684"/>
                </a:solidFill>
                <a:latin typeface="Comic Sans MS"/>
              </a:rPr>
              <a:t>Click to edit the title text format</a:t>
            </a:r>
            <a:endParaRPr b="1" lang="en-US" sz="4500" spc="-1" strike="noStrike">
              <a:solidFill>
                <a:srgbClr val="ff0684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>
              <a:buClr>
                <a:srgbClr val="9c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16080" indent="-182520">
              <a:buClr>
                <a:srgbClr val="68007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425600" indent="-182520">
              <a:buClr>
                <a:srgbClr val="005bd3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FC4D-BACC-4A32-82AE-5026651111B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nbpts.org/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www.nbpts.org/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04920" y="327636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0062"/>
                </a:solidFill>
                <a:latin typeface="Comic Sans MS"/>
              </a:rPr>
              <a:t>National Board for Professional Teachers Standard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EA:  July 2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 20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Nancy Woodall, NBCT an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Loretta Burgess, NB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04" name="Rectangle 5" descr=""/>
          <p:cNvPicPr/>
          <p:nvPr/>
        </p:nvPicPr>
        <p:blipFill>
          <a:blip r:embed="rId1"/>
          <a:stretch/>
        </p:blipFill>
        <p:spPr>
          <a:xfrm>
            <a:off x="993600" y="743040"/>
            <a:ext cx="7236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6. I have examined Portfolio Entries 1, 2, 3, and 4 and can successfully complete each of them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7. I can provide evidences of accomplished teaching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8. I regularly reflect on my practice as a teacher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9. I regularly reflect on the achievement of my student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0. I collaborate with my colleague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1. I seek out recommendations and comments from other educators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2. I welcome feedback and input about my own writing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3. I welcome feedback and input from other educators about my practice as a teacher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4. I welcome feedback and input from other educators concerning classroom videos of my teaching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5. I will attend a support group during the NBCT proces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0520" y="1599840"/>
            <a:ext cx="8458200" cy="525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lvl="1" marL="515880" indent="-272880">
              <a:lnSpc>
                <a:spcPct val="90000"/>
              </a:lnSpc>
              <a:spcBef>
                <a:spcPts val="700"/>
              </a:spcBef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osition 1: Teachers are Committed to Students and Their Lear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15880" indent="-272880">
              <a:lnSpc>
                <a:spcPct val="90000"/>
              </a:lnSpc>
              <a:spcBef>
                <a:spcPts val="700"/>
              </a:spcBef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osition 2: Teachers Know the Subjects They Teach and How to Teach Those Subjects to Studen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15880" indent="-272880">
              <a:lnSpc>
                <a:spcPct val="90000"/>
              </a:lnSpc>
              <a:spcBef>
                <a:spcPts val="700"/>
              </a:spcBef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osition 3: Teachers are Responsible for Managing and Monitoring Student Learnin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15880" indent="-272880">
              <a:lnSpc>
                <a:spcPct val="90000"/>
              </a:lnSpc>
              <a:spcBef>
                <a:spcPts val="700"/>
              </a:spcBef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osition 4: Teachers Think Systematically about Their Practice and Learn from Experienc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15880" indent="-272880">
              <a:lnSpc>
                <a:spcPct val="90000"/>
              </a:lnSpc>
              <a:spcBef>
                <a:spcPts val="700"/>
              </a:spcBef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osition 5: Teachers are Members of Learning Communitie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457200" y="0"/>
            <a:ext cx="8229600" cy="127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Five Core Proposition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6. I will travel, if necessary, to meetings in another city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7. My family and friends support me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8. My current school administration supports me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9. My current school administration will provide video equipment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0. I will purposefully limit my personal activities to provide the time I will need to be successful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1. I can say no when asked to join still another committee or to participate in a worthwhile event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2. I am computer literate, have e-mail access and internet access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3. If necessary, I can pay the NBPTS application fee or make arrangements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4. I am organized or am willing to become organized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5. I am National Board Certified Teacher material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255600" y="-304920"/>
            <a:ext cx="8815320" cy="31705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228600" y="2666520"/>
            <a:ext cx="8610480" cy="403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80000"/>
              </a:lnSpc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urn to back of your handou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80000"/>
              </a:lnSpc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nk about each question and answer it honestly, this is for you and you onl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80000"/>
              </a:lnSpc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answering all the questions, what is your answer to the question – “Am I ready for National Board Certification?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80000"/>
              </a:lnSpc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80000"/>
              </a:lnSpc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80000"/>
              </a:lnSpc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981080"/>
            <a:ext cx="8229600" cy="472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f you have mostly 5’s, 4’s, and even a few 3’s, then you are ready to take the next steps toward National Board 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o, what do you do now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 algn="ctr">
              <a:spcBef>
                <a:spcPts val="601"/>
              </a:spcBef>
              <a:buClr>
                <a:srgbClr val="9c007f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457200" y="291960"/>
            <a:ext cx="8229600" cy="927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53352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Decide on your Certificate Area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lnSpc>
                <a:spcPct val="90000"/>
              </a:lnSpc>
              <a:spcBef>
                <a:spcPts val="1026"/>
              </a:spcBef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 u="sng">
                <a:solidFill>
                  <a:srgbClr val="000000"/>
                </a:solidFill>
                <a:uFillTx/>
                <a:latin typeface="Comic Sans MS"/>
              </a:rPr>
              <a:t>Career and Technical Education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90000"/>
              </a:lnSpc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Look up Standards &amp; Portfolio Instructions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lnSpc>
                <a:spcPct val="90000"/>
              </a:lnSpc>
              <a:spcBef>
                <a:spcPts val="924"/>
              </a:spcBef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17bbfd"/>
                </a:solidFill>
                <a:uFillTx/>
                <a:latin typeface="Comic Sans MS"/>
                <a:hlinkClick r:id="rId2"/>
              </a:rPr>
              <a:t>www.nbpts.org</a:t>
            </a:r>
            <a:r>
              <a:rPr b="1" lang="en-US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22860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lvl="1" marL="395280" indent="-272880">
              <a:lnSpc>
                <a:spcPct val="90000"/>
              </a:lnSpc>
              <a:spcBef>
                <a:spcPts val="825"/>
              </a:spcBef>
              <a:buClr>
                <a:srgbClr val="e4005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Fee:  $2,500.00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lvl="1" marL="395280" indent="-272880">
              <a:lnSpc>
                <a:spcPct val="90000"/>
              </a:lnSpc>
              <a:spcBef>
                <a:spcPts val="825"/>
              </a:spcBef>
              <a:buClr>
                <a:srgbClr val="e4005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Three Ways to Fund: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lvl="2" marL="971640" indent="-51444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State funding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– Pays for al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16080" indent="-182520">
              <a:lnSpc>
                <a:spcPct val="90000"/>
              </a:lnSpc>
              <a:spcBef>
                <a:spcPts val="649"/>
              </a:spcBef>
              <a:buClr>
                <a:srgbClr val="680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ttend a required state orientation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16080" indent="-182520">
              <a:lnSpc>
                <a:spcPct val="90000"/>
              </a:lnSpc>
              <a:spcBef>
                <a:spcPts val="649"/>
              </a:spcBef>
              <a:buClr>
                <a:srgbClr val="680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ill out an application (June 3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16080" indent="-182520">
              <a:lnSpc>
                <a:spcPct val="90000"/>
              </a:lnSpc>
              <a:spcBef>
                <a:spcPts val="649"/>
              </a:spcBef>
              <a:buClr>
                <a:srgbClr val="680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ree year process, IF you don’t certify in those three years, you pay back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71640" indent="-51444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Federal funding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– Pays for half ($1,250.00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16080" indent="-182520">
              <a:lnSpc>
                <a:spcPct val="90000"/>
              </a:lnSpc>
              <a:spcBef>
                <a:spcPts val="649"/>
              </a:spcBef>
              <a:buClr>
                <a:srgbClr val="6800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oes not have to be paid back!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71640" indent="-514440">
              <a:lnSpc>
                <a:spcPct val="90000"/>
              </a:lnSpc>
              <a:spcBef>
                <a:spcPts val="751"/>
              </a:spcBef>
              <a:buClr>
                <a:srgbClr val="9c007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Pay the fee yourself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90000"/>
              </a:lnSpc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22860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Strengthen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eaching practice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mprove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tudents’ learning according to a vast majority of research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Advance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eaching career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creas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financial opportunitie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in many states and district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spcBef>
                <a:spcPts val="649"/>
              </a:spcBef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rkansas - $5,000 (currently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spcBef>
                <a:spcPts val="649"/>
              </a:spcBef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cal School District - Var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 a portable teaching licens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in most state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tributes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professional development/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re-certification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requirements in some stat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 is “good” for ten years (then you can re-certify!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4" descr="C:\Documents and Settings\Workstation\Local Settings\Temporary Internet Files\Content.IE5\R9TQBGLF\MPj04394160000[1].jpg"/>
          <p:cNvPicPr/>
          <p:nvPr/>
        </p:nvPicPr>
        <p:blipFill>
          <a:blip r:embed="rId1"/>
          <a:stretch/>
        </p:blipFill>
        <p:spPr>
          <a:xfrm>
            <a:off x="4498920" y="2895480"/>
            <a:ext cx="4479840" cy="3737160"/>
          </a:xfrm>
          <a:prstGeom prst="rect">
            <a:avLst/>
          </a:prstGeom>
          <a:ln w="0">
            <a:noFill/>
          </a:ln>
        </p:spPr>
      </p:pic>
      <p:pic>
        <p:nvPicPr>
          <p:cNvPr id="370" name="Title 1" descr=""/>
          <p:cNvPicPr/>
          <p:nvPr/>
        </p:nvPicPr>
        <p:blipFill>
          <a:blip r:embed="rId2"/>
          <a:stretch/>
        </p:blipFill>
        <p:spPr>
          <a:xfrm>
            <a:off x="1146240" y="3127320"/>
            <a:ext cx="4876560" cy="2505240"/>
          </a:xfrm>
          <a:prstGeom prst="rect">
            <a:avLst/>
          </a:prstGeom>
          <a:ln w="0">
            <a:noFill/>
          </a:ln>
        </p:spPr>
      </p:pic>
      <p:pic>
        <p:nvPicPr>
          <p:cNvPr id="371" name="Title 1" descr=""/>
          <p:cNvPicPr/>
          <p:nvPr/>
        </p:nvPicPr>
        <p:blipFill>
          <a:blip r:embed="rId3"/>
          <a:stretch/>
        </p:blipFill>
        <p:spPr>
          <a:xfrm>
            <a:off x="689040" y="689040"/>
            <a:ext cx="80103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8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0" y="267012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Title 1" descr=""/>
          <p:cNvPicPr/>
          <p:nvPr/>
        </p:nvPicPr>
        <p:blipFill>
          <a:blip r:embed="rId2"/>
          <a:stretch/>
        </p:blipFill>
        <p:spPr>
          <a:xfrm>
            <a:off x="689040" y="689040"/>
            <a:ext cx="8010360" cy="1633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C:\Documents and Settings\Workstation\Local Settings\Temporary Internet Files\Content.IE5\32RRW9B8\MCSY01849_0000[1].wmf"/>
          <p:cNvPicPr/>
          <p:nvPr/>
        </p:nvPicPr>
        <p:blipFill>
          <a:blip r:embed="rId3"/>
          <a:stretch/>
        </p:blipFill>
        <p:spPr>
          <a:xfrm>
            <a:off x="4876920" y="3279600"/>
            <a:ext cx="32367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228240" y="1774800"/>
            <a:ext cx="89154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510480" indent="-27000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rtfolio:  Four Entries (60%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6920" indent="-270000">
              <a:spcBef>
                <a:spcPts val="825"/>
              </a:spcBef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Due March 31st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lvl="2" marL="999360" indent="-270360">
              <a:spcBef>
                <a:spcPts val="799"/>
              </a:spcBef>
              <a:buClr>
                <a:srgbClr val="9c007f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try 1: Assessment of Student Lear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99360" indent="-270360">
              <a:spcBef>
                <a:spcPts val="799"/>
              </a:spcBef>
              <a:buClr>
                <a:srgbClr val="9c007f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try 2: Demonstration Less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99360" indent="-270360">
              <a:spcBef>
                <a:spcPts val="799"/>
              </a:spcBef>
              <a:buClr>
                <a:srgbClr val="9c007f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try 3: Fostering Team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99360" indent="-270360">
              <a:spcBef>
                <a:spcPts val="799"/>
              </a:spcBef>
              <a:buClr>
                <a:srgbClr val="9c007f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try 4: Documented Accomplish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228240" y="1774440"/>
            <a:ext cx="8915400" cy="4854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15880" indent="-27288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 Assessments (40%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4480" indent="-272880">
              <a:spcBef>
                <a:spcPts val="825"/>
              </a:spcBef>
              <a:buClr>
                <a:srgbClr val="e4005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Must be completed by June 15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>
              <a:spcBef>
                <a:spcPts val="700"/>
              </a:spcBef>
              <a:buClr>
                <a:srgbClr val="9c007f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: Integration of Academic Studies with Career and Technical Edu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>
              <a:spcBef>
                <a:spcPts val="700"/>
              </a:spcBef>
              <a:buClr>
                <a:srgbClr val="9c007f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: Advances in the 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>
              <a:spcBef>
                <a:spcPts val="700"/>
              </a:spcBef>
              <a:buClr>
                <a:srgbClr val="9c007f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3: Exploring Car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>
              <a:spcBef>
                <a:spcPts val="700"/>
              </a:spcBef>
              <a:buClr>
                <a:srgbClr val="9c007f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4: High-Level Skills or Proce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>
              <a:spcBef>
                <a:spcPts val="700"/>
              </a:spcBef>
              <a:buClr>
                <a:srgbClr val="9c007f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5: Employability Ski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95400" indent="-228600">
              <a:spcBef>
                <a:spcPts val="700"/>
              </a:spcBef>
              <a:buClr>
                <a:srgbClr val="9c007f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6: Worksite Lear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Documents and Settings\Workstation\Local Settings\Temporary Internet Files\Content.IE5\YF9A2I54\MCj04414280000[1].png"/>
          <p:cNvPicPr/>
          <p:nvPr/>
        </p:nvPicPr>
        <p:blipFill>
          <a:blip r:embed="rId2"/>
          <a:stretch/>
        </p:blipFill>
        <p:spPr>
          <a:xfrm>
            <a:off x="2743200" y="26668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7bbfd"/>
                </a:solidFill>
                <a:uFillTx/>
                <a:latin typeface="Comic Sans MS"/>
                <a:hlinkClick r:id="rId2"/>
              </a:rPr>
              <a:t>www.nbpts.org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Picture 4" descr="right_01"/>
          <p:cNvPicPr/>
          <p:nvPr/>
        </p:nvPicPr>
        <p:blipFill>
          <a:blip r:embed="rId3"/>
          <a:stretch/>
        </p:blipFill>
        <p:spPr>
          <a:xfrm>
            <a:off x="2057400" y="3048120"/>
            <a:ext cx="60958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676520"/>
            <a:ext cx="8229600" cy="487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90000"/>
              </a:lnSpc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the Leikert scale below to complete your answers but keep in mind that this inventory is between you and you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lnSpc>
                <a:spcPct val="90000"/>
              </a:lnSpc>
              <a:spcBef>
                <a:spcPts val="901"/>
              </a:spcBef>
              <a:buClr>
                <a:srgbClr val="e400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1-Absolutely Not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lnSpc>
                <a:spcPct val="90000"/>
              </a:lnSpc>
              <a:spcBef>
                <a:spcPts val="901"/>
              </a:spcBef>
              <a:buClr>
                <a:srgbClr val="e400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-Not Likely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lnSpc>
                <a:spcPct val="90000"/>
              </a:lnSpc>
              <a:spcBef>
                <a:spcPts val="901"/>
              </a:spcBef>
              <a:buClr>
                <a:srgbClr val="e400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3-Maybe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lnSpc>
                <a:spcPct val="90000"/>
              </a:lnSpc>
              <a:spcBef>
                <a:spcPts val="901"/>
              </a:spcBef>
              <a:buClr>
                <a:srgbClr val="e400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4-Probably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0080" indent="-272880">
              <a:lnSpc>
                <a:spcPct val="90000"/>
              </a:lnSpc>
              <a:spcBef>
                <a:spcPts val="901"/>
              </a:spcBef>
              <a:buClr>
                <a:srgbClr val="e400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5-Absolutely Can 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lnSpc>
                <a:spcPct val="90000"/>
              </a:lnSpc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16333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80520" y="29714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DOABLE!!</a:t>
            </a:r>
            <a:endParaRPr b="0" lang="en-US" sz="9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. I have 200-400 hours of professional time during this year to devote to this process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. I am highly motivated to complete this project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3. I view myself as an accomplished teacher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4. I have reviewed the NBPTS 5 core propositions and can incorporate each one of them in my daily teaching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388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5. I have examined the NBPTS content specific standards for my certificate area and can incorporate each one of them in my daily teaching.</a:t>
            </a:r>
            <a:r>
              <a:rPr b="0" lang="en-US" sz="4800" spc="-1" strike="noStrike">
                <a:solidFill>
                  <a:srgbClr val="a34b7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3:58:27Z</dcterms:created>
  <dc:creator>Edwards</dc:creator>
  <dc:description/>
  <dc:language>en-US</dc:language>
  <cp:lastModifiedBy>sssd user</cp:lastModifiedBy>
  <dcterms:modified xsi:type="dcterms:W3CDTF">2011-07-31T03:22:54Z</dcterms:modified>
  <cp:revision>58</cp:revision>
  <dc:subject/>
  <dc:title>Slide 1</dc:title>
</cp:coreProperties>
</file>